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101-1EFE-43A5-A47A-8D4FC0F2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087-280E-4E54-8294-1A532656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265-0854-4727-9631-CCDA1407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B4D-4AA8-4927-A768-18F4AA7C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1320-4A35-404E-8096-28FFB3CC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FE7-E854-4F39-9D13-156B05CA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597-3024-458C-A6A4-92232CA6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868-5F44-417D-AA09-EA53275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73E-2011-4407-A9C1-6C0E4FD5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A17-306C-4ADF-BE0C-2AC9023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D1A0-8490-4744-B204-C8F4E91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7A3-AA01-4826-BD22-3B8A9977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D7ED-C6E8-4E64-81A3-4EC77D3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DE34-F861-4527-B5F6-20A1E25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D5BD-E041-4E7E-94FE-068954E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7435-896C-4689-ABF7-F978AE3A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C87-9323-473D-A28C-F368E4B8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1AC-3A7D-4759-81B1-0432EE86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A4B-D594-4FDE-A98B-8B61F8A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7F9-6881-457A-9BFA-886E9292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115-BBE2-42D9-89AD-B3D6780F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173-41AC-4FC4-9FD5-772D05D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521-BF1B-4C55-BB0B-DC05303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6EB-752B-415E-AFCA-8D8DDCF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FC3-DAB4-425F-88B8-F81E73AA14C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7412-180E-4E75-AC05-C01A2843CED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886520" cy="571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большие единицы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 железная дорого, металлургия, космос 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7030a0"/>
              </a:buClr>
              <a:buSzPct val="10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каких областях применяются маленькие изме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химия, аптека, биология,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4" descr="23.jpg"/>
          <p:cNvPicPr/>
          <p:nvPr/>
        </p:nvPicPr>
        <p:blipFill>
          <a:blip r:embed="rId2"/>
          <a:stretch/>
        </p:blipFill>
        <p:spPr>
          <a:xfrm>
            <a:off x="214200" y="357120"/>
            <a:ext cx="264348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м = _______ с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70c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5 км =______ 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0 т =______ к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5 кг =______ 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см = ______ 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195120"/>
            <a:ext cx="5443560" cy="135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Program Files\Microsoft Office 2003\MEDIA\CAGCAT10\j0301252.wmf"/>
          <p:cNvPicPr/>
          <p:nvPr/>
        </p:nvPicPr>
        <p:blipFill>
          <a:blip r:embed="rId2"/>
          <a:stretch/>
        </p:blipFill>
        <p:spPr>
          <a:xfrm>
            <a:off x="4714920" y="1857240"/>
            <a:ext cx="39733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33440" y="201600"/>
            <a:ext cx="8350200" cy="127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1 м = 100 с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1 см – сотая часть ме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Рисунок 3" descr="13.jpg"/>
          <p:cNvPicPr/>
          <p:nvPr/>
        </p:nvPicPr>
        <p:blipFill>
          <a:blip r:embed="rId2"/>
          <a:stretch/>
        </p:blipFill>
        <p:spPr>
          <a:xfrm>
            <a:off x="1285920" y="4000680"/>
            <a:ext cx="6572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-23760" y="-66600"/>
            <a:ext cx="8356680" cy="18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и когда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Как  выполняются действия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C:\Program Files\Microsoft Office 2003\MEDIA\CAGCAT10\j0299125.wmf"/>
          <p:cNvPicPr/>
          <p:nvPr/>
        </p:nvPicPr>
        <p:blipFill>
          <a:blip r:embed="rId2"/>
          <a:stretch/>
        </p:blipFill>
        <p:spPr>
          <a:xfrm>
            <a:off x="6786720" y="2928960"/>
            <a:ext cx="2143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Times New Roman"/>
              </a:rPr>
              <a:t>Для начала разделимся на небольшие команды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Book Antiqua"/>
              </a:rPr>
              <a:t>Истор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Book Antiqua"/>
              </a:rPr>
              <a:t>Исследоват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buClr>
                <a:srgbClr val="5a2c64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Теорет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C:\Program Files\Microsoft Office 2003\MEDIA\CAGCAT10\j0217698.wmf"/>
          <p:cNvPicPr/>
          <p:nvPr/>
        </p:nvPicPr>
        <p:blipFill>
          <a:blip r:embed="rId2"/>
          <a:stretch/>
        </p:blipFill>
        <p:spPr>
          <a:xfrm>
            <a:off x="5000760" y="2643120"/>
            <a:ext cx="3857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1599840"/>
            <a:ext cx="7472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Как возникли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В каких древних источниках впервые упоминается о дробя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относились к дробям в Древней Грец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использовали в Древнем Вавилон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ово отношение к дробям в древних цивилизация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3d0af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огда и где впервые стали записывать дроби с помощью числителя и знаменател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8742240" cy="12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Зачем нужны дроб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Люди каких профессий в своей деятельности используют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задачи на дроби они реша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</a:rPr>
              <a:t>Как выполнить действие с дробям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ие дроби существую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записываются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равн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сл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вычес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умнож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разделить дроб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59Z</dcterms:created>
  <dc:creator>Admin</dc:creator>
  <dc:description/>
  <dc:language>en-US</dc:language>
  <cp:lastModifiedBy>26518</cp:lastModifiedBy>
  <dcterms:modified xsi:type="dcterms:W3CDTF">2010-05-21T04:37:20Z</dcterms:modified>
  <cp:revision>26</cp:revision>
  <dc:subject/>
  <dc:title>Главное не в том как накопить больше знаний,- главное в том, чтобы это знание, великое или малое, принадлежало тебе, явилось бы детищем твоих собственных усилий. Р. Роллан</dc:title>
</cp:coreProperties>
</file>